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9D1A-FB5D-4ED2-8615-712F5435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3926-9BD4-49C5-AC05-4D2212E3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7DD9-A9E7-4A88-B418-53325495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99B6-C1CE-4956-9334-CC92F58F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D507-4189-4B2F-8679-5B187AB2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9CD7-9698-48A3-8418-B5006930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D5E8-AEA9-43B7-BEBA-B997A853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7F44-456B-4696-BAE9-AEDDAABB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4214-B80E-402B-97C1-91B0C8AB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80EA-CBE8-4D99-80C4-0EC24836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9D6A-F71C-432C-852E-C713AB2D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1613-0838-45FF-9056-4799C4CC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A29F-C215-42CB-B41B-ABFF7BC55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6160" y="1015560"/>
            <a:ext cx="4682880" cy="4618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eek One-Face to Face Class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247320" y="0"/>
            <a:ext cx="970596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urier new"/>
              </a:rPr>
              <a:t>21st Century Learner PDLA</a:t>
            </a:r>
            <a:br>
              <a:rPr sz="3700"/>
            </a:b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Course Structur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6160" y="1419120"/>
            <a:ext cx="9758160" cy="1387080"/>
          </a:xfrm>
          <a:prstGeom prst="rect">
            <a:avLst/>
          </a:prstGeom>
          <a:solidFill>
            <a:srgbClr val="e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note Spea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ing of 21st Century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 out sess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ademic Choice-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o deepen understanding of 21st century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 common online communication tool to be used for distance learning throughout the couse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6160" y="3556080"/>
            <a:ext cx="4705200" cy="304200"/>
          </a:xfrm>
          <a:prstGeom prst="rect">
            <a:avLst/>
          </a:prstGeom>
          <a:solidFill>
            <a:srgbClr val="0b53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eek 2&amp;3-Online Learning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6160" y="3962520"/>
            <a:ext cx="9717120" cy="231480"/>
          </a:xfrm>
          <a:prstGeom prst="rect">
            <a:avLst/>
          </a:prstGeom>
          <a:solidFill>
            <a:srgbClr val="6fa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ekly response coupled with counter responses to help create true online dialog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6160" y="4470480"/>
            <a:ext cx="4682880" cy="304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eek 4-Elluminate Session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6160" y="4875120"/>
            <a:ext cx="9702720" cy="462600"/>
          </a:xfrm>
          <a:prstGeom prst="rect">
            <a:avLst/>
          </a:prstGeom>
          <a:solidFill>
            <a:srgbClr val="e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course check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ing centered on 21st century learner and ethical iss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160" y="5892840"/>
            <a:ext cx="4735440" cy="304200"/>
          </a:xfrm>
          <a:prstGeom prst="rect">
            <a:avLst/>
          </a:prstGeom>
          <a:solidFill>
            <a:srgbClr val="0b53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eek 5&amp;6-Online Learning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6160" y="6299280"/>
            <a:ext cx="9717120" cy="231480"/>
          </a:xfrm>
          <a:prstGeom prst="rect">
            <a:avLst/>
          </a:prstGeom>
          <a:solidFill>
            <a:srgbClr val="6fa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ekly response coupled with counter responses to help create true online dialog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6160" y="6807240"/>
            <a:ext cx="4708440" cy="304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Week 7-Face to Face 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6160" y="7213680"/>
            <a:ext cx="9725040" cy="231480"/>
          </a:xfrm>
          <a:prstGeom prst="rect">
            <a:avLst/>
          </a:prstGeom>
          <a:solidFill>
            <a:srgbClr val="e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ing show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58680" y="0"/>
            <a:ext cx="82076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urier new"/>
              </a:rPr>
              <a:t>Initial Face to Face Clas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360" y="1117440"/>
            <a:ext cx="1895400" cy="7383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:00-10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79520" y="1116000"/>
            <a:ext cx="3587760" cy="693720"/>
          </a:xfrm>
          <a:prstGeom prst="rect">
            <a:avLst/>
          </a:prstGeom>
          <a:solidFill>
            <a:srgbClr val="e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note Speak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21st Century Lear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40520" y="1116000"/>
            <a:ext cx="3606840" cy="924840"/>
          </a:xfrm>
          <a:prstGeom prst="rect">
            <a:avLst/>
          </a:prstGeom>
          <a:solidFill>
            <a:srgbClr val="e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st Century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u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ded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hical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6160" y="3143160"/>
            <a:ext cx="1895400" cy="738360"/>
          </a:xfrm>
          <a:prstGeom prst="rect">
            <a:avLst/>
          </a:prstGeom>
          <a:solidFill>
            <a:srgbClr val="0b53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:15-11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79520" y="3141720"/>
            <a:ext cx="2248200" cy="924840"/>
          </a:xfrm>
          <a:prstGeom prst="rect">
            <a:avLst/>
          </a:prstGeom>
          <a:solidFill>
            <a:srgbClr val="6fa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oo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esented by experienced user in the distr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21200" y="3149640"/>
            <a:ext cx="2228760" cy="924840"/>
          </a:xfrm>
          <a:prstGeom prst="rect">
            <a:avLst/>
          </a:prstGeom>
          <a:solidFill>
            <a:srgbClr val="6fa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oo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esented by experienced user in the distr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61360" y="3141720"/>
            <a:ext cx="2238120" cy="924840"/>
          </a:xfrm>
          <a:prstGeom prst="rect">
            <a:avLst/>
          </a:prstGeom>
          <a:solidFill>
            <a:srgbClr val="6fa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ool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esented by experienced user in the distr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6160" y="2641680"/>
            <a:ext cx="35528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reakout Session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6160" y="4470480"/>
            <a:ext cx="1893600" cy="738360"/>
          </a:xfrm>
          <a:prstGeom prst="rect">
            <a:avLst/>
          </a:prstGeom>
          <a:solidFill>
            <a:srgbClr val="0b53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:00-11: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79520" y="4470480"/>
            <a:ext cx="2246400" cy="924840"/>
          </a:xfrm>
          <a:prstGeom prst="rect">
            <a:avLst/>
          </a:prstGeom>
          <a:solidFill>
            <a:srgbClr val="6fa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oo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esented by experienced user in the distr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21200" y="4470480"/>
            <a:ext cx="2246400" cy="924840"/>
          </a:xfrm>
          <a:prstGeom prst="rect">
            <a:avLst/>
          </a:prstGeom>
          <a:solidFill>
            <a:srgbClr val="6fa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oo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esented by experienced user in the distr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1360" y="4470480"/>
            <a:ext cx="2246040" cy="924840"/>
          </a:xfrm>
          <a:prstGeom prst="rect">
            <a:avLst/>
          </a:prstGeom>
          <a:solidFill>
            <a:srgbClr val="6fa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ool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esented by experienced user in the distr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6160" y="6095880"/>
            <a:ext cx="1893600" cy="7383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:45-1: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79520" y="6095880"/>
            <a:ext cx="3587760" cy="924840"/>
          </a:xfrm>
          <a:prstGeom prst="rect">
            <a:avLst/>
          </a:prstGeom>
          <a:solidFill>
            <a:srgbClr val="e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arn how to use common communication 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40520" y="6095880"/>
            <a:ext cx="3605040" cy="693720"/>
          </a:xfrm>
          <a:prstGeom prst="rect">
            <a:avLst/>
          </a:prstGeom>
          <a:solidFill>
            <a:srgbClr val="e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ting up communication tool and practice using communication 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